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560" y="661356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Bell – ENGT 1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8479080" y="6613560"/>
            <a:ext cx="84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fld id="{4221A358-42C4-471B-B7FE-7C0DE9431E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hyperlink" Target="mailto:abell118@ivytech.edu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WordArt 4"/>
          <p:cNvSpPr txBox="1"/>
          <p:nvPr/>
        </p:nvSpPr>
        <p:spPr>
          <a:xfrm>
            <a:off x="990720" y="2209680"/>
            <a:ext cx="6448320" cy="4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Engineering Concepts in Technology</a:t>
            </a:r>
            <a:endParaRPr b="0" lang="en-US" sz="3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0" y="28954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ndrew G. B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bell118@ivytech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60) 481-22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Persp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" descr="header-banner.jpg"/>
          <p:cNvPicPr/>
          <p:nvPr/>
        </p:nvPicPr>
        <p:blipFill>
          <a:blip r:embed="rId4"/>
          <a:stretch/>
        </p:blipFill>
        <p:spPr>
          <a:xfrm>
            <a:off x="2743200" y="6327720"/>
            <a:ext cx="350532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408480" cy="36576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Documents and Settings\abell118\My Documents\IvyTechClasses\Images\ivylogo-99x109.gif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C:\Users\abell118\AppData\Local\Microsoft\Windows\Temporary Internet Files\Content.IE5\WSCWWW0B\MP900427623[1].jpg"/>
          <p:cNvPicPr/>
          <p:nvPr/>
        </p:nvPicPr>
        <p:blipFill>
          <a:blip r:embed="rId3"/>
          <a:stretch/>
        </p:blipFill>
        <p:spPr>
          <a:xfrm>
            <a:off x="685800" y="1523880"/>
            <a:ext cx="2897280" cy="4496040"/>
          </a:xfrm>
          <a:prstGeom prst="rect">
            <a:avLst/>
          </a:prstGeom>
          <a:ln w="0">
            <a:noFill/>
          </a:ln>
        </p:spPr>
      </p:pic>
      <p:sp>
        <p:nvSpPr>
          <p:cNvPr id="45" name="Oval Callout 1"/>
          <p:cNvSpPr/>
          <p:nvPr/>
        </p:nvSpPr>
        <p:spPr>
          <a:xfrm>
            <a:off x="5334120" y="1295280"/>
            <a:ext cx="2209680" cy="609840"/>
          </a:xfrm>
          <a:prstGeom prst="wedgeEllipseCallout">
            <a:avLst>
              <a:gd name="adj1" fmla="val 14921"/>
              <a:gd name="adj2" fmla="val 9890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obal Perspective Why b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7"/>
          <p:cNvSpPr/>
          <p:nvPr/>
        </p:nvSpPr>
        <p:spPr>
          <a:xfrm>
            <a:off x="1981080" y="457200"/>
            <a:ext cx="2210040" cy="1295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world has shrunk and we are now more globally connected to other counties and cultur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40848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Documents and Settings\abell118\My Documents\IvyTechClasses\Images\ivylogo-99x109.gif"/>
          <p:cNvPicPr/>
          <p:nvPr/>
        </p:nvPicPr>
        <p:blipFill>
          <a:blip r:embed="rId2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bell118\AppData\Local\Microsoft\Windows\Temporary Internet Files\Content.IE5\WSCWWW0B\MP900427623[1].jpg"/>
          <p:cNvPicPr/>
          <p:nvPr/>
        </p:nvPicPr>
        <p:blipFill>
          <a:blip r:embed="rId3"/>
          <a:stretch/>
        </p:blipFill>
        <p:spPr>
          <a:xfrm>
            <a:off x="685800" y="1523880"/>
            <a:ext cx="2897280" cy="4496040"/>
          </a:xfrm>
          <a:prstGeom prst="rect">
            <a:avLst/>
          </a:prstGeom>
          <a:ln w="0">
            <a:noFill/>
          </a:ln>
        </p:spPr>
      </p:pic>
      <p:sp>
        <p:nvSpPr>
          <p:cNvPr id="51" name="Oval Callout 1"/>
          <p:cNvSpPr/>
          <p:nvPr/>
        </p:nvSpPr>
        <p:spPr>
          <a:xfrm>
            <a:off x="5334120" y="1295280"/>
            <a:ext cx="2209680" cy="609840"/>
          </a:xfrm>
          <a:prstGeom prst="wedgeEllipseCallout">
            <a:avLst>
              <a:gd name="adj1" fmla="val 14518"/>
              <a:gd name="adj2" fmla="val 10036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 we live in the good ole 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Callout 7"/>
          <p:cNvSpPr/>
          <p:nvPr/>
        </p:nvSpPr>
        <p:spPr>
          <a:xfrm>
            <a:off x="1981080" y="457200"/>
            <a:ext cx="2362320" cy="1295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her cultures and  countries share the same air and water that we use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:\Users\abell118\AppData\Local\Microsoft\Windows\Temporary Internet Files\Content.IE5\WSCWWW0B\MP900427623[1].jpg"/>
          <p:cNvPicPr/>
          <p:nvPr/>
        </p:nvPicPr>
        <p:blipFill>
          <a:blip r:embed="rId2"/>
          <a:stretch/>
        </p:blipFill>
        <p:spPr>
          <a:xfrm>
            <a:off x="685800" y="1523880"/>
            <a:ext cx="2897280" cy="44960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3"/>
          <a:stretch/>
        </p:blipFill>
        <p:spPr>
          <a:xfrm>
            <a:off x="4803840" y="2057400"/>
            <a:ext cx="3406680" cy="3657600"/>
          </a:xfrm>
          <a:prstGeom prst="rect">
            <a:avLst/>
          </a:prstGeom>
          <a:ln w="0">
            <a:noFill/>
          </a:ln>
        </p:spPr>
      </p:pic>
      <p:sp>
        <p:nvSpPr>
          <p:cNvPr id="57" name="Oval Callout 7"/>
          <p:cNvSpPr/>
          <p:nvPr/>
        </p:nvSpPr>
        <p:spPr>
          <a:xfrm>
            <a:off x="1981080" y="457200"/>
            <a:ext cx="2514600" cy="1295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technology can be used to help improve the quality of life of other people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Callout 6"/>
          <p:cNvSpPr/>
          <p:nvPr/>
        </p:nvSpPr>
        <p:spPr>
          <a:xfrm>
            <a:off x="5334120" y="1295280"/>
            <a:ext cx="2209680" cy="6098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l, I love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"/>
          <p:cNvPicPr/>
          <p:nvPr/>
        </p:nvPicPr>
        <p:blipFill>
          <a:blip r:embed="rId4"/>
          <a:stretch/>
        </p:blipFill>
        <p:spPr>
          <a:xfrm>
            <a:off x="4800600" y="2057400"/>
            <a:ext cx="340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C:\Users\abell118\AppData\Local\Microsoft\Windows\Temporary Internet Files\Content.IE5\WSCWWW0B\MP900427623[1].jpg"/>
          <p:cNvPicPr/>
          <p:nvPr/>
        </p:nvPicPr>
        <p:blipFill>
          <a:blip r:embed="rId2"/>
          <a:stretch/>
        </p:blipFill>
        <p:spPr>
          <a:xfrm>
            <a:off x="685800" y="1523880"/>
            <a:ext cx="2897280" cy="449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C:\Users\abell118\AppData\Local\Microsoft\Windows\Temporary Internet Files\Content.IE5\WSCWWW0B\MP900314403[1].jpg"/>
          <p:cNvPicPr/>
          <p:nvPr/>
        </p:nvPicPr>
        <p:blipFill>
          <a:blip r:embed="rId3"/>
          <a:stretch/>
        </p:blipFill>
        <p:spPr>
          <a:xfrm>
            <a:off x="4800600" y="2057400"/>
            <a:ext cx="3413160" cy="3657600"/>
          </a:xfrm>
          <a:prstGeom prst="rect">
            <a:avLst/>
          </a:prstGeom>
          <a:ln w="0">
            <a:noFill/>
          </a:ln>
        </p:spPr>
      </p:pic>
      <p:sp>
        <p:nvSpPr>
          <p:cNvPr id="64" name="Oval Callout 7"/>
          <p:cNvSpPr/>
          <p:nvPr/>
        </p:nvSpPr>
        <p:spPr>
          <a:xfrm>
            <a:off x="1981080" y="457200"/>
            <a:ext cx="2514600" cy="1295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y have a need for energy, food, clean water, medicine and other essentials to enjoy lif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Callout 6"/>
          <p:cNvSpPr/>
          <p:nvPr/>
        </p:nvSpPr>
        <p:spPr>
          <a:xfrm>
            <a:off x="5334120" y="1295280"/>
            <a:ext cx="2209680" cy="60984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is tru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C:\Users\abell118\AppData\Local\Microsoft\Windows\Temporary Internet Files\Content.IE5\WSCWWW0B\MP900427623[1].jpg"/>
          <p:cNvPicPr/>
          <p:nvPr/>
        </p:nvPicPr>
        <p:blipFill>
          <a:blip r:embed="rId2"/>
          <a:stretch/>
        </p:blipFill>
        <p:spPr>
          <a:xfrm>
            <a:off x="685800" y="1523880"/>
            <a:ext cx="2897280" cy="449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abell118\AppData\Local\Microsoft\Windows\Temporary Internet Files\Content.IE5\WSCWWW0B\MP900314403[1].jpg"/>
          <p:cNvPicPr/>
          <p:nvPr/>
        </p:nvPicPr>
        <p:blipFill>
          <a:blip r:embed="rId3"/>
          <a:stretch/>
        </p:blipFill>
        <p:spPr>
          <a:xfrm>
            <a:off x="4800600" y="2057400"/>
            <a:ext cx="3413160" cy="3657600"/>
          </a:xfrm>
          <a:prstGeom prst="rect">
            <a:avLst/>
          </a:prstGeom>
          <a:ln w="0">
            <a:noFill/>
          </a:ln>
        </p:spPr>
      </p:pic>
      <p:sp>
        <p:nvSpPr>
          <p:cNvPr id="70" name="Oval Callout 7"/>
          <p:cNvSpPr/>
          <p:nvPr/>
        </p:nvSpPr>
        <p:spPr>
          <a:xfrm>
            <a:off x="1981080" y="457200"/>
            <a:ext cx="2514600" cy="129528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, we could learn how other cultures and peoples solve engineering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Callout 6"/>
          <p:cNvSpPr/>
          <p:nvPr/>
        </p:nvSpPr>
        <p:spPr>
          <a:xfrm>
            <a:off x="5334120" y="762120"/>
            <a:ext cx="2209680" cy="1143000"/>
          </a:xfrm>
          <a:prstGeom prst="wedgeEllipseCallout">
            <a:avLst>
              <a:gd name="adj1" fmla="val -20833"/>
              <a:gd name="adj2" fmla="val 625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understand now. We need to work together because we are part of a “global societ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76320" y="915840"/>
            <a:ext cx="4419360" cy="4510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T 120, ENGINEERING CONCEPTS I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ALOG DESCRIPTION: This entry-level course will develop a student’s perspective and enhance their skills in living and working in a technological society. The course explores the design process, problem solving, technical communication, ethics, the impact of technology, and technology grand challenges facing socie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 COURSE LEARNING OBJECTIVES: Upon successful completion of this course the student will be expected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he design process in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technology’s impact on socie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e the technologist’s value and responsibility in socie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e the infrastructure of computer networ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 various career pathways in engineering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nstrate understanding and application of basic organizational and management concep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 teams and work in collaboration to solve engineering technology problems using both face-to-face and virtual commun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a laboratory report using proper format and data presentation techniq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 how to set up a laboratory experiment, gather and analyze data, and present the results in a proper form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computer graphics software to analyze and explain engineering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spreadsheets for engineering calculations, data analysis, and data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 dimensional analysis on complex engineering eq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572000" y="930240"/>
            <a:ext cx="4419720" cy="451008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NGT 120, ENGINEERING CONCEPTS IN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TALOG DESCRIPTION: This entry-level course will develop a student’s perspective and enhance their skills in living and working in a technological society. The course explores the design process, problem solving, technical communication, ethics, the impact of technology, and technology grand challenges facing </a:t>
            </a: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global socie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JOR COURSE LEARNING OBJECTIVES: Upon successful completion of this course the student will be expected t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lement the design process in contex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entify technology’s impact on </a:t>
            </a: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the global societ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e the technologist’s value and responsibility in</a:t>
            </a:r>
            <a:r>
              <a:rPr b="0" i="1" lang="en-US" sz="1000" spc="-1" strike="noStrike">
                <a:solidFill>
                  <a:srgbClr val="ff0000"/>
                </a:solidFill>
                <a:latin typeface="Arial"/>
              </a:rPr>
              <a:t> the global socie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roduce the infrastructure of computer networ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 various career pathways in engineering technolog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onstrate understanding and application of basic organizational and management concep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 teams and work in collaboration to solve engineering technology problems using both face-to-face and virtual communic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pare a laboratory report using proper format and data presentation techniqu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derstand how to set up a laboratory experiment, gather and analyze data, and present the results in a proper forma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computer graphics software to analyze and explain engineering problem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tilize spreadsheets for engineering calculations, data analysis, and data present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form dimensional analysis on complex engineering equ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"/>
          <p:cNvSpPr/>
          <p:nvPr/>
        </p:nvSpPr>
        <p:spPr>
          <a:xfrm>
            <a:off x="81000" y="45720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T 120 COR upd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533520" y="1047600"/>
            <a:ext cx="8169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hance our Engineering Technology program ENGT 120 has been updated to include global perspective content as part of the Global Learning Across Indiana (GLAI) initi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new modules have been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)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)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)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modules include lecture and lab material and can be used to introduce global perspectives into the progr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C:\Documents and Settings\abell118\My Documents\IvyTechClasses\Images\ivylogo-99x109.gif"/>
          <p:cNvPicPr/>
          <p:nvPr/>
        </p:nvPicPr>
        <p:blipFill>
          <a:blip r:embed="rId1"/>
          <a:stretch/>
        </p:blipFill>
        <p:spPr>
          <a:xfrm>
            <a:off x="8534520" y="0"/>
            <a:ext cx="609480" cy="6714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3960" y="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00"/>
                </a:solidFill>
                <a:latin typeface="Times New Roman"/>
              </a:rPr>
              <a:t>Engineering Concepts in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6T20:35:39Z</dcterms:created>
  <dc:creator>Andrew Bell</dc:creator>
  <dc:description/>
  <dc:language>en-US</dc:language>
  <cp:lastModifiedBy>Andy Bell</cp:lastModifiedBy>
  <dcterms:modified xsi:type="dcterms:W3CDTF">2014-04-16T01:08:21Z</dcterms:modified>
  <cp:revision>51</cp:revision>
  <dc:subject/>
  <dc:title>Slide 1</dc:title>
</cp:coreProperties>
</file>