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560" y="6613560"/>
            <a:ext cx="131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Bell – ENGT 1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8479080" y="6613560"/>
            <a:ext cx="84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fld id="{B9747DEA-BE59-436D-9123-A910E32286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hyperlink" Target="mailto:abell118@ivytech.edu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n.wikipedia.org/wiki/Temperature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WordArt 4"/>
          <p:cNvSpPr txBox="1"/>
          <p:nvPr/>
        </p:nvSpPr>
        <p:spPr>
          <a:xfrm>
            <a:off x="990720" y="2209680"/>
            <a:ext cx="644832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Engineering Concepts in Technology</a:t>
            </a:r>
            <a:endParaRPr b="0" lang="en-US" sz="3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" name="Text Box 5"/>
          <p:cNvSpPr/>
          <p:nvPr/>
        </p:nvSpPr>
        <p:spPr>
          <a:xfrm>
            <a:off x="0" y="28954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Andrew G. B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bell118@ivytech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60) 481-22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Perspective – 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3" descr="header-banner.jpg"/>
          <p:cNvPicPr/>
          <p:nvPr/>
        </p:nvPicPr>
        <p:blipFill>
          <a:blip r:embed="rId4"/>
          <a:stretch/>
        </p:blipFill>
        <p:spPr>
          <a:xfrm>
            <a:off x="2743200" y="6327720"/>
            <a:ext cx="35053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3960" y="0"/>
            <a:ext cx="257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Times New Roman"/>
              </a:rPr>
              <a:t>Engineering Concepts in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28600" y="457200"/>
            <a:ext cx="8683560" cy="61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perature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, its cold today. What is the temperature outsid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all asked this question but we to understand the answer we must define what scale we are using? Celsius, Fahrenheit, Rankine, Kelvin, etc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we said that the temperature is 32 degrees outside is this cold or ho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 is 32°C the temperature is actually pretty warm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 is 32°F is actually the temperature that water free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 is 32K the temperature is about the temperature of winter on Pl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 is 32°R the temperature is slightly colder than liquid hydrog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you see picking the right scale makes all the difference in the wor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C:\Documents and Settings\abell118\My Documents\IvyTechClasses\Images\ivylogo-99x109.gif"/>
          <p:cNvPicPr/>
          <p:nvPr/>
        </p:nvPicPr>
        <p:blipFill>
          <a:blip r:embed="rId1"/>
          <a:stretch/>
        </p:blipFill>
        <p:spPr>
          <a:xfrm>
            <a:off x="8534520" y="0"/>
            <a:ext cx="609480" cy="6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3"/>
          <p:cNvSpPr/>
          <p:nvPr/>
        </p:nvSpPr>
        <p:spPr>
          <a:xfrm>
            <a:off x="365040" y="441360"/>
            <a:ext cx="8169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m Assignment - As a team create a plot using Microsoft Excel that shows the relationship between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elsi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another temperature sc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Assignment – Research the source of one of the temperature scales and post the your response in the course Discussion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Documents and Settings\abell118\My Documents\IvyTechClasses\Images\ivylogo-99x109.gif"/>
          <p:cNvPicPr/>
          <p:nvPr/>
        </p:nvPicPr>
        <p:blipFill>
          <a:blip r:embed="rId2"/>
          <a:stretch/>
        </p:blipFill>
        <p:spPr>
          <a:xfrm>
            <a:off x="8534520" y="0"/>
            <a:ext cx="609480" cy="6714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2"/>
          <p:cNvSpPr/>
          <p:nvPr/>
        </p:nvSpPr>
        <p:spPr>
          <a:xfrm>
            <a:off x="3960" y="0"/>
            <a:ext cx="257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Times New Roman"/>
              </a:rPr>
              <a:t>Engineering Concepts in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Chart 5" descr=""/>
          <p:cNvPicPr/>
          <p:nvPr/>
        </p:nvPicPr>
        <p:blipFill>
          <a:blip r:embed="rId3"/>
          <a:stretch/>
        </p:blipFill>
        <p:spPr>
          <a:xfrm>
            <a:off x="1523880" y="2057400"/>
            <a:ext cx="609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6T20:35:39Z</dcterms:created>
  <dc:creator>Andrew Bell</dc:creator>
  <dc:description/>
  <dc:language>en-US</dc:language>
  <cp:lastModifiedBy>Andy Bell</cp:lastModifiedBy>
  <dcterms:modified xsi:type="dcterms:W3CDTF">2014-04-17T19:42:05Z</dcterms:modified>
  <cp:revision>46</cp:revision>
  <dc:subject/>
  <dc:title>Slide 1</dc:title>
</cp:coreProperties>
</file>